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DAE-5801-47EC-BE5C-30C2446D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FB0-92BD-4376-AD10-B05878A1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501-F91A-4A9B-AD40-2994D34A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05D-D659-49A2-8809-323D7F4C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A73F-68AB-48C0-8E2C-06124C9E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F75D-8954-4B17-A61A-101F71BB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A45B-978B-4FE5-BD6B-2FBD243E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F3BE-B1E0-4D75-A823-3CFCF117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FE18-2E61-4CA5-AD84-3D2AEFCE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0AD8-4E7E-4BF3-833F-AB9DB588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875B-A807-4F90-952B-A5C30D0A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98A-814A-4887-A20E-775AB91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15CE-8A41-4C06-9230-A6AF6F8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CF3E-3671-4098-988A-B5E8E43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AF12-CAD8-4EE4-AE22-3B09F55B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FBD-8535-42F7-935B-C032D9F3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9C5C-0529-48E1-9407-7B2F5347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EEE-CF8A-4792-9F04-FF9AD330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7FA-126A-4CA9-8B87-E3572172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DE4-2EEA-4E3F-A415-DA0BB7B4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34A-FA87-43E9-BA27-CE567C0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AD3-23E4-4C9D-AD14-B103261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1BE-D194-48A7-B227-AE087721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8D6-1480-4F98-87EF-438EB5C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8CEB-FE19-4959-8394-852F28A4F1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70F-1B57-4C12-A34E-259FDBB845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io.usyd.edu.au/DavidDay/root_nodules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ars.usda.gov/main/site_main.htm?modecode=36401000" TargetMode="External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2012.igem.org/Team:OUC-China/Project/Overview" TargetMode="External"/><Relationship Id="rId3" Type="http://schemas.openxmlformats.org/officeDocument/2006/relationships/hyperlink" Target="http://www.saburchill.com/IBbiology/bio_hp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saburchill.com/IBbiology/bio_hp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atureworldnews.com/articles/15693/20150717/toxic-algae-expected-lake-erie-potentially-worst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97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E NITROGEN CYCL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nitrate fertiliser helps the growth of both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esence of microbes permits the peas to grow much better than the o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as grow better in the presence of the microbes than they do with nitrate fertiliser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is due to the present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tualis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itrogen fixing bacteria which live in the pea roo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3"/>
          <p:cNvGrpSpPr/>
          <p:nvPr/>
        </p:nvGrpSpPr>
        <p:grpSpPr>
          <a:xfrm>
            <a:off x="6070680" y="1660680"/>
            <a:ext cx="2379600" cy="4565880"/>
            <a:chOff x="6070680" y="1660680"/>
            <a:chExt cx="2379600" cy="4565880"/>
          </a:xfrm>
        </p:grpSpPr>
        <p:pic>
          <p:nvPicPr>
            <p:cNvPr id="164" name="Picture 5" descr="root_nodules"/>
            <p:cNvPicPr/>
            <p:nvPr/>
          </p:nvPicPr>
          <p:blipFill>
            <a:blip r:embed="rId1"/>
            <a:stretch/>
          </p:blipFill>
          <p:spPr>
            <a:xfrm>
              <a:off x="6070680" y="1660680"/>
              <a:ext cx="2379600" cy="42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6"/>
            <p:cNvSpPr/>
            <p:nvPr/>
          </p:nvSpPr>
          <p:spPr>
            <a:xfrm>
              <a:off x="6135480" y="5960520"/>
              <a:ext cx="138636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996600"/>
                  </a:solidFill>
                  <a:uFillTx/>
                  <a:latin typeface="Verdana"/>
                  <a:hlinkClick r:id="rId2"/>
                </a:rPr>
                <a:t>University of Sydn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471600" y="1627200"/>
            <a:ext cx="4972320" cy="3093120"/>
            <a:chOff x="471600" y="1627200"/>
            <a:chExt cx="4972320" cy="3093120"/>
          </a:xfrm>
        </p:grpSpPr>
        <p:sp>
          <p:nvSpPr>
            <p:cNvPr id="167" name="Text Box 10"/>
            <p:cNvSpPr/>
            <p:nvPr/>
          </p:nvSpPr>
          <p:spPr>
            <a:xfrm>
              <a:off x="2549160" y="1666800"/>
              <a:ext cx="289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Alafalfa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Medicago sativa)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4"/>
            <p:cNvGrpSpPr/>
            <p:nvPr/>
          </p:nvGrpSpPr>
          <p:grpSpPr>
            <a:xfrm>
              <a:off x="471600" y="1627200"/>
              <a:ext cx="1809720" cy="3093120"/>
              <a:chOff x="471600" y="1627200"/>
              <a:chExt cx="1809720" cy="3093120"/>
            </a:xfrm>
          </p:grpSpPr>
          <p:pic>
            <p:nvPicPr>
              <p:cNvPr id="169" name="Picture 9" descr="Alfalfa flower photo"/>
              <p:cNvPicPr/>
              <p:nvPr/>
            </p:nvPicPr>
            <p:blipFill>
              <a:blip r:embed="rId3"/>
              <a:stretch/>
            </p:blipFill>
            <p:spPr>
              <a:xfrm>
                <a:off x="471600" y="1627200"/>
                <a:ext cx="180972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Rectangle 11"/>
              <p:cNvSpPr/>
              <p:nvPr/>
            </p:nvSpPr>
            <p:spPr>
              <a:xfrm>
                <a:off x="565920" y="4454280"/>
                <a:ext cx="855720" cy="2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996600"/>
                    </a:solidFill>
                    <a:uFillTx/>
                    <a:latin typeface="Verdana"/>
                    <a:hlinkClick r:id="rId4"/>
                  </a:rPr>
                  <a:t>USDA - A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oot nodu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Only prokaryotes show nitrogen fix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organisms possess the </a:t>
            </a:r>
            <a:r>
              <a:rPr b="1" lang="en-GB" sz="2400" spc="-1" strike="noStrike">
                <a:solidFill>
                  <a:srgbClr val="3b812f"/>
                </a:solidFill>
                <a:latin typeface="Arial"/>
              </a:rPr>
              <a:t>ni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 complex which make the  nitrogenase enzyme, used in nitrogen fi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ction involves splitting nitrogen gas molecules and adding hydrogen to make ammoni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2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b812f"/>
                </a:solidFill>
                <a:latin typeface="Arial"/>
              </a:rPr>
              <a:t>- 669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N + 8H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+ 54 kJ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extremely energy expensive requiring 16 ATP molecules for each nitrogen molecul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crobes that can fix nitrogen need a good supply of energ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nitrogen fix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9cc"/>
                </a:solidFill>
                <a:latin typeface="Arial"/>
              </a:rPr>
              <a:t>Cyanobacteri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re nitrogen fixers that also fix carbon (these are photosynthe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00"/>
                </a:solidFill>
                <a:latin typeface="Arial"/>
              </a:rPr>
              <a:t>Rhizobium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cteria are </a:t>
            </a: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mutualisti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ith certain plant species e.g.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grow in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oot n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990000"/>
                </a:solidFill>
                <a:latin typeface="Arial"/>
              </a:rPr>
              <a:t>Azotobacter</a:t>
            </a: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re bacteria associated with the rooting zone (the rhizosphere) of plants in grassland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4"/>
          <p:cNvGrpSpPr/>
          <p:nvPr/>
        </p:nvGrpSpPr>
        <p:grpSpPr>
          <a:xfrm>
            <a:off x="738360" y="1184400"/>
            <a:ext cx="8021520" cy="5287680"/>
            <a:chOff x="738360" y="1184400"/>
            <a:chExt cx="8021520" cy="5287680"/>
          </a:xfrm>
        </p:grpSpPr>
        <p:sp>
          <p:nvSpPr>
            <p:cNvPr id="180" name="Rectangle 4"/>
            <p:cNvSpPr/>
            <p:nvPr/>
          </p:nvSpPr>
          <p:spPr>
            <a:xfrm>
              <a:off x="744480" y="3443400"/>
              <a:ext cx="8015400" cy="3028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3"/>
            <p:cNvGrpSpPr/>
            <p:nvPr/>
          </p:nvGrpSpPr>
          <p:grpSpPr>
            <a:xfrm>
              <a:off x="738360" y="1184400"/>
              <a:ext cx="6999120" cy="5149800"/>
              <a:chOff x="738360" y="1184400"/>
              <a:chExt cx="6999120" cy="5149800"/>
            </a:xfrm>
          </p:grpSpPr>
          <p:sp>
            <p:nvSpPr>
              <p:cNvPr id="182" name="Arc 6"/>
              <p:cNvSpPr/>
              <p:nvPr/>
            </p:nvSpPr>
            <p:spPr>
              <a:xfrm rot="10800000">
                <a:off x="2371320" y="3914640"/>
                <a:ext cx="3848040" cy="2314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rc 7"/>
              <p:cNvSpPr/>
              <p:nvPr/>
            </p:nvSpPr>
            <p:spPr>
              <a:xfrm flipH="1" rot="10800000">
                <a:off x="5942520" y="3606840"/>
                <a:ext cx="896760" cy="2241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2"/>
              <p:cNvSpPr/>
              <p:nvPr/>
            </p:nvSpPr>
            <p:spPr>
              <a:xfrm>
                <a:off x="5442120" y="5667480"/>
                <a:ext cx="173664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Nitrate NO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fr-FR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"/>
              <p:cNvSpPr/>
              <p:nvPr/>
            </p:nvSpPr>
            <p:spPr>
              <a:xfrm>
                <a:off x="1714680" y="1305000"/>
                <a:ext cx="4606920" cy="4943520"/>
              </a:xfrm>
              <a:custGeom>
                <a:avLst/>
                <a:gdLst/>
                <a:ahLst/>
                <a:rect l="l" t="t" r="r" b="b"/>
                <a:pathLst>
                  <a:path w="5805" h="7785">
                    <a:moveTo>
                      <a:pt x="3915" y="0"/>
                    </a:moveTo>
                    <a:cubicBezTo>
                      <a:pt x="3715" y="7"/>
                      <a:pt x="3017" y="10"/>
                      <a:pt x="2715" y="45"/>
                    </a:cubicBezTo>
                    <a:cubicBezTo>
                      <a:pt x="2413" y="80"/>
                      <a:pt x="2308" y="107"/>
                      <a:pt x="2100" y="210"/>
                    </a:cubicBezTo>
                    <a:cubicBezTo>
                      <a:pt x="1892" y="313"/>
                      <a:pt x="1675" y="463"/>
                      <a:pt x="1470" y="660"/>
                    </a:cubicBezTo>
                    <a:cubicBezTo>
                      <a:pt x="1265" y="857"/>
                      <a:pt x="1040" y="1125"/>
                      <a:pt x="870" y="1395"/>
                    </a:cubicBezTo>
                    <a:cubicBezTo>
                      <a:pt x="700" y="1665"/>
                      <a:pt x="565" y="2007"/>
                      <a:pt x="450" y="2280"/>
                    </a:cubicBezTo>
                    <a:cubicBezTo>
                      <a:pt x="335" y="2553"/>
                      <a:pt x="247" y="2760"/>
                      <a:pt x="180" y="3030"/>
                    </a:cubicBezTo>
                    <a:cubicBezTo>
                      <a:pt x="113" y="3300"/>
                      <a:pt x="62" y="3605"/>
                      <a:pt x="45" y="3900"/>
                    </a:cubicBezTo>
                    <a:cubicBezTo>
                      <a:pt x="28" y="4195"/>
                      <a:pt x="0" y="4447"/>
                      <a:pt x="75" y="4800"/>
                    </a:cubicBezTo>
                    <a:cubicBezTo>
                      <a:pt x="150" y="5153"/>
                      <a:pt x="293" y="5650"/>
                      <a:pt x="495" y="6015"/>
                    </a:cubicBezTo>
                    <a:cubicBezTo>
                      <a:pt x="697" y="6380"/>
                      <a:pt x="950" y="6745"/>
                      <a:pt x="1290" y="6990"/>
                    </a:cubicBezTo>
                    <a:cubicBezTo>
                      <a:pt x="1630" y="7235"/>
                      <a:pt x="2107" y="7372"/>
                      <a:pt x="2535" y="7485"/>
                    </a:cubicBezTo>
                    <a:cubicBezTo>
                      <a:pt x="2963" y="7598"/>
                      <a:pt x="3488" y="7623"/>
                      <a:pt x="3855" y="7665"/>
                    </a:cubicBezTo>
                    <a:cubicBezTo>
                      <a:pt x="4222" y="7707"/>
                      <a:pt x="4415" y="7720"/>
                      <a:pt x="4740" y="7740"/>
                    </a:cubicBezTo>
                    <a:cubicBezTo>
                      <a:pt x="5065" y="7760"/>
                      <a:pt x="5435" y="7772"/>
                      <a:pt x="5805" y="778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15"/>
              <p:cNvGrpSpPr/>
              <p:nvPr/>
            </p:nvGrpSpPr>
            <p:grpSpPr>
              <a:xfrm>
                <a:off x="1800360" y="1219320"/>
                <a:ext cx="1330200" cy="896760"/>
                <a:chOff x="1800360" y="1219320"/>
                <a:chExt cx="1330200" cy="896760"/>
              </a:xfrm>
            </p:grpSpPr>
            <p:sp>
              <p:nvSpPr>
                <p:cNvPr id="187" name="Text Box 16"/>
                <p:cNvSpPr/>
                <p:nvPr/>
              </p:nvSpPr>
              <p:spPr>
                <a:xfrm>
                  <a:off x="1800360" y="1219320"/>
                  <a:ext cx="1330200" cy="41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tmospheric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17"/>
                <p:cNvSpPr/>
                <p:nvPr/>
              </p:nvSpPr>
              <p:spPr>
                <a:xfrm flipH="1">
                  <a:off x="2550960" y="1648440"/>
                  <a:ext cx="506520" cy="46764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18"/>
                <p:cNvSpPr/>
                <p:nvPr/>
              </p:nvSpPr>
              <p:spPr>
                <a:xfrm>
                  <a:off x="1922040" y="1638720"/>
                  <a:ext cx="506880" cy="46764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9"/>
              <p:cNvGrpSpPr/>
              <p:nvPr/>
            </p:nvGrpSpPr>
            <p:grpSpPr>
              <a:xfrm>
                <a:off x="738360" y="1733400"/>
                <a:ext cx="1409040" cy="1724040"/>
                <a:chOff x="738360" y="1733400"/>
                <a:chExt cx="1409040" cy="1724040"/>
              </a:xfrm>
            </p:grpSpPr>
            <p:sp>
              <p:nvSpPr>
                <p:cNvPr id="191" name="AutoShape 20"/>
                <p:cNvSpPr/>
                <p:nvPr/>
              </p:nvSpPr>
              <p:spPr>
                <a:xfrm>
                  <a:off x="738360" y="2989800"/>
                  <a:ext cx="1133280" cy="467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21"/>
                <p:cNvSpPr/>
                <p:nvPr/>
              </p:nvSpPr>
              <p:spPr>
                <a:xfrm>
                  <a:off x="1043640" y="1733400"/>
                  <a:ext cx="1103760" cy="1412280"/>
                </a:xfrm>
                <a:prstGeom prst="cloudCallout">
                  <a:avLst>
                    <a:gd name="adj1" fmla="val -14287"/>
                    <a:gd name="adj2" fmla="val 961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Out ga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22"/>
              <p:cNvSpPr/>
              <p:nvPr/>
            </p:nvSpPr>
            <p:spPr>
              <a:xfrm>
                <a:off x="1266840" y="2463840"/>
                <a:ext cx="628560" cy="669960"/>
              </a:xfrm>
              <a:custGeom>
                <a:avLst/>
                <a:gdLst/>
                <a:ahLst/>
                <a:rect l="l" t="t" r="r" b="b"/>
                <a:pathLst>
                  <a:path w="975" h="1056">
                    <a:moveTo>
                      <a:pt x="0" y="852"/>
                    </a:moveTo>
                    <a:cubicBezTo>
                      <a:pt x="3" y="713"/>
                      <a:pt x="20" y="571"/>
                      <a:pt x="75" y="440"/>
                    </a:cubicBezTo>
                    <a:cubicBezTo>
                      <a:pt x="130" y="309"/>
                      <a:pt x="235" y="132"/>
                      <a:pt x="330" y="66"/>
                    </a:cubicBezTo>
                    <a:cubicBezTo>
                      <a:pt x="425" y="0"/>
                      <a:pt x="560" y="25"/>
                      <a:pt x="645" y="44"/>
                    </a:cubicBezTo>
                    <a:cubicBezTo>
                      <a:pt x="730" y="63"/>
                      <a:pt x="787" y="110"/>
                      <a:pt x="840" y="182"/>
                    </a:cubicBezTo>
                    <a:cubicBezTo>
                      <a:pt x="893" y="254"/>
                      <a:pt x="945" y="328"/>
                      <a:pt x="960" y="474"/>
                    </a:cubicBezTo>
                    <a:cubicBezTo>
                      <a:pt x="975" y="620"/>
                      <a:pt x="936" y="935"/>
                      <a:pt x="930" y="10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33"/>
              <p:cNvGrpSpPr/>
              <p:nvPr/>
            </p:nvGrpSpPr>
            <p:grpSpPr>
              <a:xfrm>
                <a:off x="5897520" y="1941480"/>
                <a:ext cx="1530360" cy="1322280"/>
                <a:chOff x="5897520" y="1941480"/>
                <a:chExt cx="1530360" cy="1322280"/>
              </a:xfrm>
            </p:grpSpPr>
            <p:sp>
              <p:nvSpPr>
                <p:cNvPr id="195" name="Text Box 34"/>
                <p:cNvSpPr/>
                <p:nvPr/>
              </p:nvSpPr>
              <p:spPr>
                <a:xfrm>
                  <a:off x="5897520" y="1941480"/>
                  <a:ext cx="15192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35"/>
                <p:cNvSpPr/>
                <p:nvPr/>
              </p:nvSpPr>
              <p:spPr>
                <a:xfrm>
                  <a:off x="5930640" y="2806920"/>
                  <a:ext cx="14972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Plant prote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Arc 36"/>
              <p:cNvSpPr/>
              <p:nvPr/>
            </p:nvSpPr>
            <p:spPr>
              <a:xfrm flipH="1">
                <a:off x="4448160" y="2419200"/>
                <a:ext cx="2292480" cy="102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Picture 37" descr="BD18253_"/>
              <p:cNvPicPr/>
              <p:nvPr/>
            </p:nvPicPr>
            <p:blipFill>
              <a:blip r:embed="rId3"/>
              <a:stretch/>
            </p:blipFill>
            <p:spPr>
              <a:xfrm>
                <a:off x="6122880" y="1963800"/>
                <a:ext cx="102888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rc 40"/>
              <p:cNvSpPr/>
              <p:nvPr/>
            </p:nvSpPr>
            <p:spPr>
              <a:xfrm flipH="1">
                <a:off x="2410560" y="1368360"/>
                <a:ext cx="2335320" cy="2195640"/>
              </a:xfrm>
              <a:custGeom>
                <a:avLst/>
                <a:gdLst/>
                <a:ahLst/>
                <a:rect l="l" t="t" r="r" b="b"/>
                <a:pathLst>
                  <a:path fill="none" w="26886" h="21600">
                    <a:moveTo>
                      <a:pt x="-1" y="656"/>
                    </a:moveTo>
                    <a:cubicBezTo>
                      <a:pt x="1728" y="220"/>
                      <a:pt x="3503" y="-1"/>
                      <a:pt x="5286" y="-1"/>
                    </a:cubicBezTo>
                    <a:cubicBezTo>
                      <a:pt x="17215" y="-1"/>
                      <a:pt x="26886" y="9670"/>
                      <a:pt x="26886" y="21600"/>
                    </a:cubicBezTo>
                  </a:path>
                  <a:path stroke="0" w="26886" h="21600">
                    <a:moveTo>
                      <a:pt x="-1" y="656"/>
                    </a:moveTo>
                    <a:cubicBezTo>
                      <a:pt x="1728" y="220"/>
                      <a:pt x="3503" y="-1"/>
                      <a:pt x="5286" y="-1"/>
                    </a:cubicBezTo>
                    <a:cubicBezTo>
                      <a:pt x="17215" y="-1"/>
                      <a:pt x="26886" y="9670"/>
                      <a:pt x="26886" y="21600"/>
                    </a:cubicBezTo>
                    <a:lnTo>
                      <a:pt x="5286" y="21600"/>
                    </a:lnTo>
                    <a:lnTo>
                      <a:pt x="-1" y="65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41"/>
              <p:cNvSpPr/>
              <p:nvPr/>
            </p:nvSpPr>
            <p:spPr>
              <a:xfrm>
                <a:off x="4508640" y="1184400"/>
                <a:ext cx="3228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Atmospheric Nitrog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5"/>
              <p:cNvSpPr/>
              <p:nvPr/>
            </p:nvSpPr>
            <p:spPr>
              <a:xfrm rot="10800000">
                <a:off x="4164120" y="3954600"/>
                <a:ext cx="2125440" cy="2077920"/>
              </a:xfrm>
              <a:custGeom>
                <a:avLst/>
                <a:gdLst/>
                <a:ahLst/>
                <a:rect l="l" t="t" r="r" b="b"/>
                <a:pathLst>
                  <a:path fill="none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</a:path>
                  <a:path stroke="0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  <a:lnTo>
                      <a:pt x="0" y="20937"/>
                    </a:lnTo>
                    <a:lnTo>
                      <a:pt x="531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1"/>
              <p:cNvSpPr/>
              <p:nvPr/>
            </p:nvSpPr>
            <p:spPr>
              <a:xfrm>
                <a:off x="3586320" y="4329000"/>
                <a:ext cx="1674720" cy="73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Ammonium NH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fr-FR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9"/>
              <p:cNvSpPr/>
              <p:nvPr/>
            </p:nvSpPr>
            <p:spPr>
              <a:xfrm>
                <a:off x="3341520" y="3424320"/>
                <a:ext cx="2292480" cy="6951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il organic nitrog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human impa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933560" y="3465360"/>
            <a:ext cx="1081080" cy="47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ological fix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4"/>
          <p:cNvSpPr/>
          <p:nvPr/>
        </p:nvSpPr>
        <p:spPr>
          <a:xfrm flipH="1">
            <a:off x="3085560" y="1504800"/>
            <a:ext cx="1863720" cy="1676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3398760" y="2006640"/>
            <a:ext cx="16448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Industrial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5"/>
          <p:cNvGrpSpPr/>
          <p:nvPr/>
        </p:nvGrpSpPr>
        <p:grpSpPr>
          <a:xfrm>
            <a:off x="2809800" y="1981080"/>
            <a:ext cx="827280" cy="1466640"/>
            <a:chOff x="2809800" y="1981080"/>
            <a:chExt cx="827280" cy="1466640"/>
          </a:xfrm>
        </p:grpSpPr>
        <p:sp>
          <p:nvSpPr>
            <p:cNvPr id="209" name="AutoShape 26"/>
            <p:cNvSpPr/>
            <p:nvPr/>
          </p:nvSpPr>
          <p:spPr>
            <a:xfrm>
              <a:off x="3365640" y="1981080"/>
              <a:ext cx="271440" cy="518760"/>
            </a:xfrm>
            <a:prstGeom prst="cloudCallout">
              <a:avLst>
                <a:gd name="adj1" fmla="val 791"/>
                <a:gd name="adj2" fmla="val 7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7"/>
            <p:cNvGrpSpPr/>
            <p:nvPr/>
          </p:nvGrpSpPr>
          <p:grpSpPr>
            <a:xfrm>
              <a:off x="2809800" y="2539800"/>
              <a:ext cx="736920" cy="907920"/>
              <a:chOff x="2809800" y="2539800"/>
              <a:chExt cx="736920" cy="907920"/>
            </a:xfrm>
          </p:grpSpPr>
          <p:sp>
            <p:nvSpPr>
              <p:cNvPr id="211" name="Rectangle 28"/>
              <p:cNvSpPr/>
              <p:nvPr/>
            </p:nvSpPr>
            <p:spPr>
              <a:xfrm>
                <a:off x="2809800" y="3243600"/>
                <a:ext cx="736920" cy="20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9"/>
              <p:cNvSpPr/>
              <p:nvPr/>
            </p:nvSpPr>
            <p:spPr>
              <a:xfrm rot="1617000">
                <a:off x="2827800" y="3198240"/>
                <a:ext cx="239400" cy="9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30"/>
              <p:cNvSpPr/>
              <p:nvPr/>
            </p:nvSpPr>
            <p:spPr>
              <a:xfrm rot="1608600">
                <a:off x="3012120" y="3213360"/>
                <a:ext cx="239400" cy="9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1"/>
              <p:cNvSpPr/>
              <p:nvPr/>
            </p:nvSpPr>
            <p:spPr>
              <a:xfrm rot="1371600">
                <a:off x="3196080" y="3213360"/>
                <a:ext cx="239400" cy="9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2"/>
              <p:cNvSpPr/>
              <p:nvPr/>
            </p:nvSpPr>
            <p:spPr>
              <a:xfrm>
                <a:off x="3436200" y="2539800"/>
                <a:ext cx="110520" cy="70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Arc 10"/>
          <p:cNvSpPr/>
          <p:nvPr/>
        </p:nvSpPr>
        <p:spPr>
          <a:xfrm rot="10800000">
            <a:off x="3076560" y="3429000"/>
            <a:ext cx="2944800" cy="269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42"/>
          <p:cNvSpPr/>
          <p:nvPr/>
        </p:nvSpPr>
        <p:spPr>
          <a:xfrm rot="10800000">
            <a:off x="3096720" y="3306600"/>
            <a:ext cx="567000" cy="126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97160" presetSubtype="319883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0" presetSubtype="319887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dustrial N-Fix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996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Haber-Bosch Proc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2NH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3b812f"/>
                </a:solidFill>
                <a:latin typeface="Arial"/>
              </a:rPr>
              <a:t>- 92k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Haber process uses an iron cataly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temperatures (500°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pressures (250 atmospher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nergy require comes from burning fossil fuels (coal, gas or oi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ydrogen is produced from natural gas (methane) or other hydrocarb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The different sources of fixed nitrogen</a:t>
            </a: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04880" y="1233360"/>
          <a:ext cx="7980480" cy="3036960"/>
        </p:xfrm>
        <a:graphic>
          <a:graphicData uri="http://schemas.openxmlformats.org/drawingml/2006/table">
            <a:tbl>
              <a:tblPr/>
              <a:tblGrid>
                <a:gridCol w="4152960"/>
                <a:gridCol w="382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s of fixed nitrog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/ M tonnes a</a:t>
                      </a:r>
                      <a:r>
                        <a:rPr b="1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logi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l Combus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ospher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Eutrophication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317600"/>
            <a:ext cx="84027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trient enrichment of water bo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trates and ammonia are very soluble in wa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easily washed (leached) from free draining so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oils tend to be deficient in nitr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fertiliser is added to these soils it too will be washed out into water bo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lgae benefit from the extra nitr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leads to a serious form of water pol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4"/>
          <p:cNvSpPr/>
          <p:nvPr/>
        </p:nvSpPr>
        <p:spPr>
          <a:xfrm>
            <a:off x="4627440" y="1619280"/>
            <a:ext cx="3240" cy="3595680"/>
          </a:xfrm>
          <a:prstGeom prst="line">
            <a:avLst/>
          </a:prstGeom>
          <a:ln w="698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173320" y="1008000"/>
            <a:ext cx="49021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rtilisers washed into river or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1574640" y="4146480"/>
            <a:ext cx="1171800" cy="1144800"/>
          </a:xfrm>
          <a:prstGeom prst="line">
            <a:avLst/>
          </a:prstGeom>
          <a:ln w="507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 flipH="1">
            <a:off x="6756120" y="3803760"/>
            <a:ext cx="1098360" cy="123660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604960" y="3127320"/>
            <a:ext cx="4048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imiting factor imposes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2633760" y="4649760"/>
            <a:ext cx="40068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Decomposers (bacteria) increase in numbers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7143840" y="2681280"/>
            <a:ext cx="1501560" cy="11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Dead leav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2398680" y="1814400"/>
            <a:ext cx="444168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ALGAL BLOOM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Rapid growth of algae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3105000" y="4122720"/>
            <a:ext cx="3014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Lucida Blackletter"/>
              </a:rPr>
              <a:t>Death of algae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Lucida Blackletter"/>
              <a:ea typeface="Lucida Blackletter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04920" y="3182760"/>
            <a:ext cx="1933560" cy="10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Sewage or other organic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3040" y="309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Eutroph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97160" presetSubtype="320172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0" presetSubtype="320178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0" presetSubtype="320192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0" presetSubtype="3202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gal blooms can be na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1" name="Espace réservé du contenu 3" descr="Ouc-blooms_in.jpg"/>
          <p:cNvPicPr/>
          <p:nvPr/>
        </p:nvPicPr>
        <p:blipFill>
          <a:blip r:embed="rId1"/>
          <a:srcRect l="6406" t="0" r="6406" b="0"/>
          <a:stretch/>
        </p:blipFill>
        <p:spPr>
          <a:xfrm>
            <a:off x="407880" y="113976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42" name="ZoneTexte 4"/>
          <p:cNvSpPr/>
          <p:nvPr/>
        </p:nvSpPr>
        <p:spPr>
          <a:xfrm>
            <a:off x="617760" y="577044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Annual cycles of an alga in the Baltic with Total Nitrogen and Total Phosp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611280" y="3068640"/>
            <a:ext cx="8137440" cy="35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05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Nitrates are essential for plant grow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Arc 5"/>
          <p:cNvSpPr/>
          <p:nvPr/>
        </p:nvSpPr>
        <p:spPr>
          <a:xfrm flipH="1" rot="10800000">
            <a:off x="5943600" y="2952360"/>
            <a:ext cx="657360" cy="2428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084720" y="3362400"/>
            <a:ext cx="971640" cy="85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oo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48360" y="5343480"/>
            <a:ext cx="13446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ate 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5897520" y="1197000"/>
            <a:ext cx="1553760" cy="1811160"/>
            <a:chOff x="5897520" y="1197000"/>
            <a:chExt cx="1553760" cy="1811160"/>
          </a:xfrm>
        </p:grpSpPr>
        <p:sp>
          <p:nvSpPr>
            <p:cNvPr id="94" name="Text Box 9"/>
            <p:cNvSpPr/>
            <p:nvPr/>
          </p:nvSpPr>
          <p:spPr>
            <a:xfrm>
              <a:off x="5897520" y="1197000"/>
              <a:ext cx="154296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5931000" y="2382480"/>
              <a:ext cx="1520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lant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1" descr="BD18253_"/>
          <p:cNvPicPr/>
          <p:nvPr/>
        </p:nvPicPr>
        <p:blipFill>
          <a:blip r:embed="rId2"/>
          <a:stretch/>
        </p:blipFill>
        <p:spPr>
          <a:xfrm>
            <a:off x="5796000" y="1125360"/>
            <a:ext cx="1584360" cy="140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54696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973824" presetSubtype="170018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17005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0" presetSubtype="170016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0" presetSubtype="170030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ling algal bloo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umber of herbiv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ake 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Espace réservé du contenu 6" descr="hab.jpg"/>
          <p:cNvPicPr/>
          <p:nvPr/>
        </p:nvPicPr>
        <p:blipFill>
          <a:blip r:embed="rId2"/>
          <a:srcRect l="11641" t="0" r="11641" b="0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12"/>
          <p:cNvSpPr/>
          <p:nvPr/>
        </p:nvSpPr>
        <p:spPr>
          <a:xfrm flipH="1">
            <a:off x="4893840" y="3328920"/>
            <a:ext cx="11160" cy="200664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 flipH="1">
            <a:off x="6821280" y="3916440"/>
            <a:ext cx="1336680" cy="14698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1517760" y="3960720"/>
            <a:ext cx="1446120" cy="1425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979720" y="3638520"/>
            <a:ext cx="383544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d Biochemical Oxygen Demand (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93560" y="2798640"/>
            <a:ext cx="2156040" cy="176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Hot wat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rom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Thermal pol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188120" y="2693880"/>
            <a:ext cx="1711440" cy="137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lution from oil or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deter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0"/>
          <p:cNvSpPr txBox="1"/>
          <p:nvPr/>
        </p:nvSpPr>
        <p:spPr>
          <a:xfrm>
            <a:off x="2873520" y="2022480"/>
            <a:ext cx="407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Decomposers (bacteria) increase in numbers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981160" y="5413320"/>
            <a:ext cx="3835440" cy="57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duction in dissolved O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king things worse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0" presetSubtype="320274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0" presetSubtype="32030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0" presetSubtype="320277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0" presetSubtype="32029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death of a la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92120" y="4791240"/>
            <a:ext cx="2824200" cy="115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th/emigration of freshwater 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64000" y="5146560"/>
            <a:ext cx="4400640" cy="103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haemoglobinaemia in inf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omach canc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WHO limit for nitrates 10mg dm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464000" y="2189160"/>
            <a:ext cx="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 flipH="1">
            <a:off x="2222280" y="3308400"/>
            <a:ext cx="2246040" cy="14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500720" y="3260880"/>
            <a:ext cx="2385720" cy="1847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376880" y="3684600"/>
            <a:ext cx="2557440" cy="99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creased nitrit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12"/>
          <p:cNvSpPr txBox="1"/>
          <p:nvPr/>
        </p:nvSpPr>
        <p:spPr>
          <a:xfrm>
            <a:off x="2327400" y="2673360"/>
            <a:ext cx="424476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ANAEROBIC CONDITIONS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382840" y="1727280"/>
            <a:ext cx="4168800" cy="47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duction in dissolved O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97160" presetSubtype="320438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0" presetSubtype="32038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0" presetSubtype="320428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0" presetSubtype="320390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28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The future of industrial nitrogen fixation</a:t>
            </a: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relies heavily upon synthetic fertilisers made by consuming a lot of fossi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will become more expensive to 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fixing microbes, using an enzyme system, do the same process at standard temperatures and pressures essentially using solar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Genetically engineered biological nitrogen fix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king things bet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8160"/>
            <a:ext cx="82296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ed for synthetic fertilisers can be reduced by cultural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voiding the use of soluble fertilisers in sandy (free draining soil) prevents l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otat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crops permits the soil to recover from nitrogen hungry crops (e.g. whea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ng a nitrogen fixing crop into the rotation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oughing aerates the soil and reduces denit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raining water logged soil also helps reduce denitrif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Return to the atmosphere:</a:t>
            </a: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Denitrific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itrates and nitrites can be used a source of oxygen for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bacter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vourable conditions: Cold waterlogged (anaerobic) so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3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+  N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viding up to 2385k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liberated oxygen is used as an electron acceptor in the processes that oxidise organic molecules, such as 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se microbes are, therefore,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ectivorous pla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9" name="Espace réservé du contenu 3" descr="Drosera rotundifolia01.jpg"/>
          <p:cNvPicPr/>
          <p:nvPr/>
        </p:nvPicPr>
        <p:blipFill>
          <a:blip r:embed="rId1"/>
          <a:stretch/>
        </p:blipFill>
        <p:spPr>
          <a:xfrm>
            <a:off x="457200" y="1136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0" name="ZoneTexte 4"/>
          <p:cNvSpPr/>
          <p:nvPr/>
        </p:nvSpPr>
        <p:spPr>
          <a:xfrm>
            <a:off x="6462000" y="5684760"/>
            <a:ext cx="21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rosera rotundif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P Bill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ectivorous pla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ivorous plants trap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igest thei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 proteins provide a source of 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lants have found a niche in nitrogen deficient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eat b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osera rotundifo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 P Bill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7" descr="Drosera rotundifolia02.jpg"/>
          <p:cNvPicPr/>
          <p:nvPr/>
        </p:nvPicPr>
        <p:blipFill>
          <a:blip r:embed="rId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5"/>
          <p:cNvGrpSpPr/>
          <p:nvPr/>
        </p:nvGrpSpPr>
        <p:grpSpPr>
          <a:xfrm>
            <a:off x="0" y="743040"/>
            <a:ext cx="9143640" cy="5833440"/>
            <a:chOff x="0" y="743040"/>
            <a:chExt cx="9143640" cy="5833440"/>
          </a:xfrm>
        </p:grpSpPr>
        <p:grpSp>
          <p:nvGrpSpPr>
            <p:cNvPr id="288" name="Group 6"/>
            <p:cNvGrpSpPr/>
            <p:nvPr/>
          </p:nvGrpSpPr>
          <p:grpSpPr>
            <a:xfrm>
              <a:off x="5040" y="861480"/>
              <a:ext cx="9138600" cy="5715000"/>
              <a:chOff x="5040" y="861480"/>
              <a:chExt cx="9138600" cy="5715000"/>
            </a:xfrm>
          </p:grpSpPr>
          <p:grpSp>
            <p:nvGrpSpPr>
              <p:cNvPr id="289" name="Group 7"/>
              <p:cNvGrpSpPr/>
              <p:nvPr/>
            </p:nvGrpSpPr>
            <p:grpSpPr>
              <a:xfrm>
                <a:off x="5040" y="6036120"/>
                <a:ext cx="9128880" cy="540360"/>
                <a:chOff x="5040" y="6036120"/>
                <a:chExt cx="9128880" cy="540360"/>
              </a:xfrm>
            </p:grpSpPr>
            <p:sp>
              <p:nvSpPr>
                <p:cNvPr id="290" name="Rectangle 8"/>
                <p:cNvSpPr/>
                <p:nvPr/>
              </p:nvSpPr>
              <p:spPr>
                <a:xfrm>
                  <a:off x="5040" y="6036120"/>
                  <a:ext cx="9128880" cy="540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Text Box 9"/>
                <p:cNvSpPr/>
                <p:nvPr/>
              </p:nvSpPr>
              <p:spPr>
                <a:xfrm>
                  <a:off x="7070400" y="6186600"/>
                  <a:ext cx="1494360" cy="3034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Sediments 10 G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0"/>
              <p:cNvGrpSpPr/>
              <p:nvPr/>
            </p:nvGrpSpPr>
            <p:grpSpPr>
              <a:xfrm>
                <a:off x="6120" y="861480"/>
                <a:ext cx="9137520" cy="5313960"/>
                <a:chOff x="6120" y="861480"/>
                <a:chExt cx="9137520" cy="5313960"/>
              </a:xfrm>
            </p:grpSpPr>
            <p:sp>
              <p:nvSpPr>
                <p:cNvPr id="293" name="Rectangle 11"/>
                <p:cNvSpPr/>
                <p:nvPr/>
              </p:nvSpPr>
              <p:spPr>
                <a:xfrm>
                  <a:off x="6120" y="2999160"/>
                  <a:ext cx="6352200" cy="3028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rc 12"/>
                <p:cNvSpPr/>
                <p:nvPr/>
              </p:nvSpPr>
              <p:spPr>
                <a:xfrm rot="10800000">
                  <a:off x="3384360" y="3510000"/>
                  <a:ext cx="1684440" cy="2076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0937">
                      <a:moveTo>
                        <a:pt x="5310" y="-1"/>
                      </a:moveTo>
                      <a:cubicBezTo>
                        <a:pt x="14890" y="2429"/>
                        <a:pt x="21600" y="11052"/>
                        <a:pt x="21600" y="20937"/>
                      </a:cubicBezTo>
                    </a:path>
                    <a:path stroke="0" w="21600" h="20937">
                      <a:moveTo>
                        <a:pt x="5310" y="-1"/>
                      </a:moveTo>
                      <a:cubicBezTo>
                        <a:pt x="14890" y="2429"/>
                        <a:pt x="21600" y="11052"/>
                        <a:pt x="21600" y="20937"/>
                      </a:cubicBezTo>
                      <a:lnTo>
                        <a:pt x="0" y="20937"/>
                      </a:lnTo>
                      <a:lnTo>
                        <a:pt x="531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rc 13"/>
                <p:cNvSpPr/>
                <p:nvPr/>
              </p:nvSpPr>
              <p:spPr>
                <a:xfrm rot="10800000">
                  <a:off x="1614240" y="3471120"/>
                  <a:ext cx="3048840" cy="2314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14"/>
                <p:cNvSpPr/>
                <p:nvPr/>
              </p:nvSpPr>
              <p:spPr>
                <a:xfrm>
                  <a:off x="3666240" y="5085000"/>
                  <a:ext cx="893880" cy="266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Nitr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rc 15"/>
                <p:cNvSpPr/>
                <p:nvPr/>
              </p:nvSpPr>
              <p:spPr>
                <a:xfrm flipH="1" rot="10800000">
                  <a:off x="5142600" y="2975760"/>
                  <a:ext cx="649080" cy="24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Text Box 16"/>
                <p:cNvSpPr/>
                <p:nvPr/>
              </p:nvSpPr>
              <p:spPr>
                <a:xfrm>
                  <a:off x="5389560" y="3385080"/>
                  <a:ext cx="705600" cy="4665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Root uptak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rc 17"/>
                <p:cNvSpPr/>
                <p:nvPr/>
              </p:nvSpPr>
              <p:spPr>
                <a:xfrm rot="10800000">
                  <a:off x="2329920" y="2966040"/>
                  <a:ext cx="442080" cy="1304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18"/>
                <p:cNvSpPr/>
                <p:nvPr/>
              </p:nvSpPr>
              <p:spPr>
                <a:xfrm>
                  <a:off x="1181880" y="3021480"/>
                  <a:ext cx="855720" cy="475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Biological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rc 19"/>
                <p:cNvSpPr/>
                <p:nvPr/>
              </p:nvSpPr>
              <p:spPr>
                <a:xfrm rot="10800000">
                  <a:off x="2310840" y="2984760"/>
                  <a:ext cx="2333880" cy="2695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20"/>
                <p:cNvSpPr/>
                <p:nvPr/>
              </p:nvSpPr>
              <p:spPr>
                <a:xfrm>
                  <a:off x="3214440" y="4475520"/>
                  <a:ext cx="893880" cy="2473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Nitr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21"/>
                <p:cNvSpPr/>
                <p:nvPr/>
              </p:nvSpPr>
              <p:spPr>
                <a:xfrm>
                  <a:off x="2759760" y="4137120"/>
                  <a:ext cx="1474920" cy="25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mmonium NH</a:t>
                  </a:r>
                  <a:r>
                    <a:rPr b="1" lang="fr-FR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1" lang="fr-FR" sz="12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22"/>
                <p:cNvSpPr/>
                <p:nvPr/>
              </p:nvSpPr>
              <p:spPr>
                <a:xfrm>
                  <a:off x="2749680" y="3682440"/>
                  <a:ext cx="1316880" cy="256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mmon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Text Box 23"/>
                <p:cNvSpPr/>
                <p:nvPr/>
              </p:nvSpPr>
              <p:spPr>
                <a:xfrm>
                  <a:off x="3399480" y="4772520"/>
                  <a:ext cx="1004760" cy="27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Nitrite NO</a:t>
                  </a:r>
                  <a:r>
                    <a:rPr b="1" lang="fr-FR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fr-FR" sz="12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24"/>
                <p:cNvGrpSpPr/>
                <p:nvPr/>
              </p:nvGrpSpPr>
              <p:grpSpPr>
                <a:xfrm>
                  <a:off x="5331240" y="2996640"/>
                  <a:ext cx="3812400" cy="3178800"/>
                  <a:chOff x="5331240" y="2996640"/>
                  <a:chExt cx="3812400" cy="3178800"/>
                </a:xfrm>
              </p:grpSpPr>
              <p:sp>
                <p:nvSpPr>
                  <p:cNvPr id="307" name="Text Box 25"/>
                  <p:cNvSpPr/>
                  <p:nvPr/>
                </p:nvSpPr>
                <p:spPr>
                  <a:xfrm>
                    <a:off x="6366240" y="3002040"/>
                    <a:ext cx="2777400" cy="3026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7676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issolved in wat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00 G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rc 26"/>
                  <p:cNvSpPr/>
                  <p:nvPr/>
                </p:nvSpPr>
                <p:spPr>
                  <a:xfrm flipH="1" rot="10800000">
                    <a:off x="5330880" y="3308760"/>
                    <a:ext cx="1430280" cy="22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Text Box 27"/>
                  <p:cNvSpPr/>
                  <p:nvPr/>
                </p:nvSpPr>
                <p:spPr>
                  <a:xfrm>
                    <a:off x="6166080" y="2996640"/>
                    <a:ext cx="1314720" cy="30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nitrific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rc 28"/>
                  <p:cNvSpPr/>
                  <p:nvPr/>
                </p:nvSpPr>
                <p:spPr>
                  <a:xfrm rot="10800000">
                    <a:off x="6818400" y="3299040"/>
                    <a:ext cx="235080" cy="742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rc 29"/>
                  <p:cNvSpPr/>
                  <p:nvPr/>
                </p:nvSpPr>
                <p:spPr>
                  <a:xfrm flipH="1" rot="10800000">
                    <a:off x="5669280" y="4299480"/>
                    <a:ext cx="1976040" cy="1419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Text Box 30"/>
                  <p:cNvSpPr/>
                  <p:nvPr/>
                </p:nvSpPr>
                <p:spPr>
                  <a:xfrm>
                    <a:off x="5794200" y="5509080"/>
                    <a:ext cx="1128960" cy="2761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each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31"/>
                  <p:cNvSpPr/>
                  <p:nvPr/>
                </p:nvSpPr>
                <p:spPr>
                  <a:xfrm>
                    <a:off x="7797240" y="4289760"/>
                    <a:ext cx="360" cy="1885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Text Box 32"/>
                <p:cNvSpPr/>
                <p:nvPr/>
              </p:nvSpPr>
              <p:spPr>
                <a:xfrm>
                  <a:off x="4631040" y="5366160"/>
                  <a:ext cx="1053720" cy="52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Nitrate NO</a:t>
                  </a:r>
                  <a:r>
                    <a:rPr b="1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fr-FR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3"/>
                <p:cNvSpPr/>
                <p:nvPr/>
              </p:nvSpPr>
              <p:spPr>
                <a:xfrm>
                  <a:off x="965160" y="861480"/>
                  <a:ext cx="3651120" cy="4942800"/>
                </a:xfrm>
                <a:custGeom>
                  <a:avLst/>
                  <a:gdLst/>
                  <a:ahLst/>
                  <a:rect l="l" t="t" r="r" b="b"/>
                  <a:pathLst>
                    <a:path w="5805" h="7785">
                      <a:moveTo>
                        <a:pt x="3915" y="0"/>
                      </a:moveTo>
                      <a:cubicBezTo>
                        <a:pt x="3715" y="7"/>
                        <a:pt x="3017" y="10"/>
                        <a:pt x="2715" y="45"/>
                      </a:cubicBezTo>
                      <a:cubicBezTo>
                        <a:pt x="2413" y="80"/>
                        <a:pt x="2308" y="107"/>
                        <a:pt x="2100" y="210"/>
                      </a:cubicBezTo>
                      <a:cubicBezTo>
                        <a:pt x="1892" y="313"/>
                        <a:pt x="1675" y="463"/>
                        <a:pt x="1470" y="660"/>
                      </a:cubicBezTo>
                      <a:cubicBezTo>
                        <a:pt x="1265" y="857"/>
                        <a:pt x="1040" y="1125"/>
                        <a:pt x="870" y="1395"/>
                      </a:cubicBezTo>
                      <a:cubicBezTo>
                        <a:pt x="700" y="1665"/>
                        <a:pt x="565" y="2007"/>
                        <a:pt x="450" y="2280"/>
                      </a:cubicBezTo>
                      <a:cubicBezTo>
                        <a:pt x="335" y="2553"/>
                        <a:pt x="247" y="2760"/>
                        <a:pt x="180" y="3030"/>
                      </a:cubicBezTo>
                      <a:cubicBezTo>
                        <a:pt x="113" y="3300"/>
                        <a:pt x="62" y="3605"/>
                        <a:pt x="45" y="3900"/>
                      </a:cubicBezTo>
                      <a:cubicBezTo>
                        <a:pt x="28" y="4195"/>
                        <a:pt x="0" y="4447"/>
                        <a:pt x="75" y="4800"/>
                      </a:cubicBezTo>
                      <a:cubicBezTo>
                        <a:pt x="150" y="5153"/>
                        <a:pt x="293" y="5650"/>
                        <a:pt x="495" y="6015"/>
                      </a:cubicBezTo>
                      <a:cubicBezTo>
                        <a:pt x="697" y="6380"/>
                        <a:pt x="950" y="6745"/>
                        <a:pt x="1290" y="6990"/>
                      </a:cubicBezTo>
                      <a:cubicBezTo>
                        <a:pt x="1630" y="7235"/>
                        <a:pt x="2107" y="7372"/>
                        <a:pt x="2535" y="7485"/>
                      </a:cubicBezTo>
                      <a:cubicBezTo>
                        <a:pt x="2963" y="7598"/>
                        <a:pt x="3488" y="7623"/>
                        <a:pt x="3855" y="7665"/>
                      </a:cubicBezTo>
                      <a:cubicBezTo>
                        <a:pt x="4222" y="7707"/>
                        <a:pt x="4415" y="7720"/>
                        <a:pt x="4740" y="7740"/>
                      </a:cubicBezTo>
                      <a:cubicBezTo>
                        <a:pt x="5065" y="7760"/>
                        <a:pt x="5435" y="7772"/>
                        <a:pt x="5805" y="778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34"/>
                <p:cNvSpPr/>
                <p:nvPr/>
              </p:nvSpPr>
              <p:spPr>
                <a:xfrm>
                  <a:off x="2910240" y="3040560"/>
                  <a:ext cx="1775520" cy="5414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Soil organic nitrogen 9500 G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Group 35"/>
            <p:cNvGrpSpPr/>
            <p:nvPr/>
          </p:nvGrpSpPr>
          <p:grpSpPr>
            <a:xfrm>
              <a:off x="0" y="775080"/>
              <a:ext cx="3798000" cy="2238840"/>
              <a:chOff x="0" y="775080"/>
              <a:chExt cx="3798000" cy="2238840"/>
            </a:xfrm>
          </p:grpSpPr>
          <p:sp>
            <p:nvSpPr>
              <p:cNvPr id="318" name="Arc 36"/>
              <p:cNvSpPr/>
              <p:nvPr/>
            </p:nvSpPr>
            <p:spPr>
              <a:xfrm flipH="1">
                <a:off x="2320560" y="1061280"/>
                <a:ext cx="1477440" cy="1723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37"/>
              <p:cNvSpPr/>
              <p:nvPr/>
            </p:nvSpPr>
            <p:spPr>
              <a:xfrm flipH="1">
                <a:off x="1632960" y="994680"/>
                <a:ext cx="1853640" cy="20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38"/>
              <p:cNvGrpSpPr/>
              <p:nvPr/>
            </p:nvGrpSpPr>
            <p:grpSpPr>
              <a:xfrm>
                <a:off x="1048680" y="775080"/>
                <a:ext cx="1054080" cy="897120"/>
                <a:chOff x="1048680" y="775080"/>
                <a:chExt cx="1054080" cy="897120"/>
              </a:xfrm>
            </p:grpSpPr>
            <p:sp>
              <p:nvSpPr>
                <p:cNvPr id="321" name="Text Box 39"/>
                <p:cNvSpPr/>
                <p:nvPr/>
              </p:nvSpPr>
              <p:spPr>
                <a:xfrm>
                  <a:off x="1048680" y="775080"/>
                  <a:ext cx="10540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tmospheric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40"/>
                <p:cNvSpPr/>
                <p:nvPr/>
              </p:nvSpPr>
              <p:spPr>
                <a:xfrm flipH="1">
                  <a:off x="1643400" y="1204200"/>
                  <a:ext cx="401400" cy="46800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41"/>
                <p:cNvSpPr/>
                <p:nvPr/>
              </p:nvSpPr>
              <p:spPr>
                <a:xfrm>
                  <a:off x="1145160" y="1194840"/>
                  <a:ext cx="401400" cy="46800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2"/>
              <p:cNvGrpSpPr/>
              <p:nvPr/>
            </p:nvGrpSpPr>
            <p:grpSpPr>
              <a:xfrm>
                <a:off x="0" y="1289880"/>
                <a:ext cx="1326600" cy="1724040"/>
                <a:chOff x="0" y="1289880"/>
                <a:chExt cx="1326600" cy="1724040"/>
              </a:xfrm>
            </p:grpSpPr>
            <p:sp>
              <p:nvSpPr>
                <p:cNvPr id="325" name="AutoShape 43"/>
                <p:cNvSpPr/>
                <p:nvPr/>
              </p:nvSpPr>
              <p:spPr>
                <a:xfrm>
                  <a:off x="0" y="2546280"/>
                  <a:ext cx="1067040" cy="467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44"/>
                <p:cNvSpPr/>
                <p:nvPr/>
              </p:nvSpPr>
              <p:spPr>
                <a:xfrm>
                  <a:off x="287280" y="1289880"/>
                  <a:ext cx="1039320" cy="1412280"/>
                </a:xfrm>
                <a:prstGeom prst="cloudCallout">
                  <a:avLst>
                    <a:gd name="adj1" fmla="val -14287"/>
                    <a:gd name="adj2" fmla="val 9611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Out ga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Freeform 45"/>
              <p:cNvSpPr/>
              <p:nvPr/>
            </p:nvSpPr>
            <p:spPr>
              <a:xfrm>
                <a:off x="523080" y="2019600"/>
                <a:ext cx="611640" cy="670320"/>
              </a:xfrm>
              <a:custGeom>
                <a:avLst/>
                <a:gdLst/>
                <a:ahLst/>
                <a:rect l="l" t="t" r="r" b="b"/>
                <a:pathLst>
                  <a:path w="975" h="1056">
                    <a:moveTo>
                      <a:pt x="0" y="852"/>
                    </a:moveTo>
                    <a:cubicBezTo>
                      <a:pt x="3" y="713"/>
                      <a:pt x="20" y="571"/>
                      <a:pt x="75" y="440"/>
                    </a:cubicBezTo>
                    <a:cubicBezTo>
                      <a:pt x="130" y="309"/>
                      <a:pt x="235" y="132"/>
                      <a:pt x="330" y="66"/>
                    </a:cubicBezTo>
                    <a:cubicBezTo>
                      <a:pt x="425" y="0"/>
                      <a:pt x="560" y="25"/>
                      <a:pt x="645" y="44"/>
                    </a:cubicBezTo>
                    <a:cubicBezTo>
                      <a:pt x="730" y="63"/>
                      <a:pt x="787" y="110"/>
                      <a:pt x="840" y="182"/>
                    </a:cubicBezTo>
                    <a:cubicBezTo>
                      <a:pt x="893" y="254"/>
                      <a:pt x="945" y="328"/>
                      <a:pt x="960" y="474"/>
                    </a:cubicBezTo>
                    <a:cubicBezTo>
                      <a:pt x="975" y="620"/>
                      <a:pt x="936" y="935"/>
                      <a:pt x="930" y="10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46"/>
              <p:cNvGrpSpPr/>
              <p:nvPr/>
            </p:nvGrpSpPr>
            <p:grpSpPr>
              <a:xfrm>
                <a:off x="2113560" y="1604160"/>
                <a:ext cx="1420920" cy="1399680"/>
                <a:chOff x="2113560" y="1604160"/>
                <a:chExt cx="1420920" cy="1399680"/>
              </a:xfrm>
            </p:grpSpPr>
            <p:sp>
              <p:nvSpPr>
                <p:cNvPr id="329" name="Text Box 47"/>
                <p:cNvSpPr/>
                <p:nvPr/>
              </p:nvSpPr>
              <p:spPr>
                <a:xfrm>
                  <a:off x="2527560" y="1938240"/>
                  <a:ext cx="1006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Industrial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48"/>
                <p:cNvGrpSpPr/>
                <p:nvPr/>
              </p:nvGrpSpPr>
              <p:grpSpPr>
                <a:xfrm>
                  <a:off x="2113560" y="1604160"/>
                  <a:ext cx="602280" cy="1399680"/>
                  <a:chOff x="2113560" y="1604160"/>
                  <a:chExt cx="602280" cy="1399680"/>
                </a:xfrm>
              </p:grpSpPr>
              <p:sp>
                <p:nvSpPr>
                  <p:cNvPr id="331" name="AutoShape 49"/>
                  <p:cNvSpPr/>
                  <p:nvPr/>
                </p:nvSpPr>
                <p:spPr>
                  <a:xfrm>
                    <a:off x="2518200" y="1604160"/>
                    <a:ext cx="197640" cy="495360"/>
                  </a:xfrm>
                  <a:prstGeom prst="cloudCallout">
                    <a:avLst>
                      <a:gd name="adj1" fmla="val 791"/>
                      <a:gd name="adj2" fmla="val 70000"/>
                    </a:avLst>
                  </a:prstGeom>
                  <a:gradFill rotWithShape="0">
                    <a:gsLst>
                      <a:gs pos="0">
                        <a:srgbClr val="76767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2" name="Group 50"/>
                  <p:cNvGrpSpPr/>
                  <p:nvPr/>
                </p:nvGrpSpPr>
                <p:grpSpPr>
                  <a:xfrm>
                    <a:off x="2113560" y="2137320"/>
                    <a:ext cx="536400" cy="866520"/>
                    <a:chOff x="2113560" y="2137320"/>
                    <a:chExt cx="536400" cy="866520"/>
                  </a:xfrm>
                </p:grpSpPr>
                <p:sp>
                  <p:nvSpPr>
                    <p:cNvPr id="333" name="Rectangle 51"/>
                    <p:cNvSpPr/>
                    <p:nvPr/>
                  </p:nvSpPr>
                  <p:spPr>
                    <a:xfrm>
                      <a:off x="2113560" y="2809080"/>
                      <a:ext cx="536400" cy="194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Rectangle 52"/>
                    <p:cNvSpPr/>
                    <p:nvPr/>
                  </p:nvSpPr>
                  <p:spPr>
                    <a:xfrm rot="1617000">
                      <a:off x="2126880" y="2765520"/>
                      <a:ext cx="174240" cy="86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Rectangle 53"/>
                    <p:cNvSpPr/>
                    <p:nvPr/>
                  </p:nvSpPr>
                  <p:spPr>
                    <a:xfrm rot="1608600">
                      <a:off x="2260440" y="2780280"/>
                      <a:ext cx="174240" cy="86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Rectangle 54"/>
                    <p:cNvSpPr/>
                    <p:nvPr/>
                  </p:nvSpPr>
                  <p:spPr>
                    <a:xfrm rot="1371600">
                      <a:off x="2395080" y="2779920"/>
                      <a:ext cx="174240" cy="86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Rectangle 55"/>
                    <p:cNvSpPr/>
                    <p:nvPr/>
                  </p:nvSpPr>
                  <p:spPr>
                    <a:xfrm>
                      <a:off x="2569680" y="2137320"/>
                      <a:ext cx="80280" cy="671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8" name="Group 56"/>
            <p:cNvGrpSpPr/>
            <p:nvPr/>
          </p:nvGrpSpPr>
          <p:grpSpPr>
            <a:xfrm>
              <a:off x="3037680" y="743040"/>
              <a:ext cx="3743280" cy="2287440"/>
              <a:chOff x="3037680" y="743040"/>
              <a:chExt cx="3743280" cy="2287440"/>
            </a:xfrm>
          </p:grpSpPr>
          <p:grpSp>
            <p:nvGrpSpPr>
              <p:cNvPr id="339" name="Group 57"/>
              <p:cNvGrpSpPr/>
              <p:nvPr/>
            </p:nvGrpSpPr>
            <p:grpSpPr>
              <a:xfrm>
                <a:off x="5097960" y="1709280"/>
                <a:ext cx="1212480" cy="1321200"/>
                <a:chOff x="5097960" y="1709280"/>
                <a:chExt cx="1212480" cy="1321200"/>
              </a:xfrm>
            </p:grpSpPr>
            <p:sp>
              <p:nvSpPr>
                <p:cNvPr id="340" name="Text Box 58"/>
                <p:cNvSpPr/>
                <p:nvPr/>
              </p:nvSpPr>
              <p:spPr>
                <a:xfrm>
                  <a:off x="5097960" y="1709280"/>
                  <a:ext cx="120384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Text Box 59"/>
                <p:cNvSpPr/>
                <p:nvPr/>
              </p:nvSpPr>
              <p:spPr>
                <a:xfrm>
                  <a:off x="5124240" y="2574000"/>
                  <a:ext cx="118620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Plant protei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3500 G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Arc 60"/>
              <p:cNvSpPr/>
              <p:nvPr/>
            </p:nvSpPr>
            <p:spPr>
              <a:xfrm flipH="1" rot="5400000">
                <a:off x="5272200" y="1505520"/>
                <a:ext cx="2009520" cy="1006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rc 61"/>
              <p:cNvSpPr/>
              <p:nvPr/>
            </p:nvSpPr>
            <p:spPr>
              <a:xfrm flipH="1">
                <a:off x="3665520" y="1976040"/>
                <a:ext cx="1816200" cy="1028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2"/>
              <p:cNvSpPr/>
              <p:nvPr/>
            </p:nvSpPr>
            <p:spPr>
              <a:xfrm>
                <a:off x="3531960" y="2115000"/>
                <a:ext cx="771120" cy="475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nimal prote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rc 63"/>
              <p:cNvSpPr/>
              <p:nvPr/>
            </p:nvSpPr>
            <p:spPr>
              <a:xfrm flipH="1">
                <a:off x="4136760" y="2385360"/>
                <a:ext cx="1119600" cy="5997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64"/>
              <p:cNvSpPr/>
              <p:nvPr/>
            </p:nvSpPr>
            <p:spPr>
              <a:xfrm>
                <a:off x="3037680" y="743040"/>
                <a:ext cx="31903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Atmospheric Nitrog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4 000 000 000 G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7" name="Picture 65" descr="BD18253_"/>
          <p:cNvPicPr/>
          <p:nvPr/>
        </p:nvPicPr>
        <p:blipFill>
          <a:blip r:embed="rId6"/>
          <a:stretch/>
        </p:blipFill>
        <p:spPr>
          <a:xfrm>
            <a:off x="5313240" y="1862280"/>
            <a:ext cx="816120" cy="725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95280" y="657864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0" presetSubtype="17005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1"/>
          <p:cNvSpPr/>
          <p:nvPr/>
        </p:nvSpPr>
        <p:spPr>
          <a:xfrm>
            <a:off x="500040" y="3068640"/>
            <a:ext cx="8248680" cy="35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Nitrates are recycled via microb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Arc 4"/>
          <p:cNvSpPr/>
          <p:nvPr/>
        </p:nvSpPr>
        <p:spPr>
          <a:xfrm rot="10800000">
            <a:off x="3419640" y="3200040"/>
            <a:ext cx="3078000" cy="3241800"/>
          </a:xfrm>
          <a:custGeom>
            <a:avLst/>
            <a:gdLst/>
            <a:ahLst/>
            <a:rect l="l" t="t" r="r" b="b"/>
            <a:pathLst>
              <a:path fill="none" w="21600" h="20937">
                <a:moveTo>
                  <a:pt x="5310" y="-1"/>
                </a:moveTo>
                <a:cubicBezTo>
                  <a:pt x="14890" y="2429"/>
                  <a:pt x="21600" y="11052"/>
                  <a:pt x="21600" y="20937"/>
                </a:cubicBezTo>
              </a:path>
              <a:path stroke="0" w="21600" h="20937">
                <a:moveTo>
                  <a:pt x="5310" y="-1"/>
                </a:moveTo>
                <a:cubicBezTo>
                  <a:pt x="14890" y="2429"/>
                  <a:pt x="21600" y="11052"/>
                  <a:pt x="21600" y="20937"/>
                </a:cubicBezTo>
                <a:lnTo>
                  <a:pt x="0" y="20937"/>
                </a:lnTo>
                <a:lnTo>
                  <a:pt x="531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780000" y="5661000"/>
            <a:ext cx="164448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55800" y="4559400"/>
            <a:ext cx="1836720" cy="40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390760" y="3965400"/>
            <a:ext cx="22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mmonium N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84480" y="3400560"/>
            <a:ext cx="2514600" cy="41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mm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187800" y="5157720"/>
            <a:ext cx="16318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ite 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873080" y="2708280"/>
            <a:ext cx="309744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oil organic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908680" y="1197000"/>
            <a:ext cx="15429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17"/>
          <p:cNvSpPr/>
          <p:nvPr/>
        </p:nvSpPr>
        <p:spPr>
          <a:xfrm flipH="1">
            <a:off x="2339280" y="1952640"/>
            <a:ext cx="3946680" cy="75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979720" y="1773360"/>
            <a:ext cx="1241280" cy="72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19"/>
          <p:cNvSpPr/>
          <p:nvPr/>
        </p:nvSpPr>
        <p:spPr>
          <a:xfrm flipH="1">
            <a:off x="4317840" y="2174760"/>
            <a:ext cx="196056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5784840" y="947880"/>
            <a:ext cx="1955880" cy="5678280"/>
            <a:chOff x="5784840" y="947880"/>
            <a:chExt cx="1955880" cy="5678280"/>
          </a:xfrm>
        </p:grpSpPr>
        <p:sp>
          <p:nvSpPr>
            <p:cNvPr id="112" name="Arc 6"/>
            <p:cNvSpPr/>
            <p:nvPr/>
          </p:nvSpPr>
          <p:spPr>
            <a:xfrm flipH="1" rot="10800000">
              <a:off x="5942520" y="2952360"/>
              <a:ext cx="1009800" cy="3213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6192720" y="3362400"/>
              <a:ext cx="1258920" cy="85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Root upt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5784840" y="5877000"/>
              <a:ext cx="100800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itrate NO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6118200" y="2351160"/>
              <a:ext cx="15210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lant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20" descr="BD18253_"/>
            <p:cNvPicPr/>
            <p:nvPr/>
          </p:nvPicPr>
          <p:blipFill>
            <a:blip r:embed="rId4"/>
            <a:stretch/>
          </p:blipFill>
          <p:spPr>
            <a:xfrm>
              <a:off x="5991120" y="947880"/>
              <a:ext cx="1749600" cy="15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95280" y="65628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0" presetSubtype="170200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0" presetSubtype="1701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0" presetSubtype="170135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0" presetSubtype="170124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0" presetSubtype="1701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0" presetSubtype="17015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0" presetSubtype="9628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mmonification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trogen enters the soil through the decomposition of protein in dead organic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mino acids + 1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 + N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+ 736k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cess liberates a lot of energy which can be used by the saprotrophic microb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tr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239480"/>
            <a:ext cx="822960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nvolves two oxidation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mmonia produced by ammonification is an energy rich substrate for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Nitrosomas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y oxidise it to nitri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ff0000"/>
                </a:solidFill>
                <a:latin typeface="Arial"/>
              </a:rPr>
              <a:t>+ 276kJ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n turn provides a substrate for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Nitrobacter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that oxidise the nitrite to nitr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ff0000"/>
                </a:solidFill>
                <a:latin typeface="Arial"/>
              </a:rPr>
              <a:t>+ 73 kJ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energy is the only source of energy for these prokary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y are chemoautotroph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31"/>
          <p:cNvGrpSpPr/>
          <p:nvPr/>
        </p:nvGrpSpPr>
        <p:grpSpPr>
          <a:xfrm>
            <a:off x="744480" y="1585800"/>
            <a:ext cx="7959960" cy="4786560"/>
            <a:chOff x="744480" y="1585800"/>
            <a:chExt cx="7959960" cy="4786560"/>
          </a:xfrm>
        </p:grpSpPr>
        <p:sp>
          <p:nvSpPr>
            <p:cNvPr id="125" name="Rectangle 4"/>
            <p:cNvSpPr/>
            <p:nvPr/>
          </p:nvSpPr>
          <p:spPr>
            <a:xfrm>
              <a:off x="744480" y="3343320"/>
              <a:ext cx="7959960" cy="302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3308400" y="1585800"/>
              <a:ext cx="4602240" cy="4648320"/>
              <a:chOff x="3308400" y="1585800"/>
              <a:chExt cx="4602240" cy="4648320"/>
            </a:xfrm>
          </p:grpSpPr>
          <p:sp>
            <p:nvSpPr>
              <p:cNvPr id="127" name="Arc 5"/>
              <p:cNvSpPr/>
              <p:nvPr/>
            </p:nvSpPr>
            <p:spPr>
              <a:xfrm rot="10800000">
                <a:off x="4164120" y="3854520"/>
                <a:ext cx="1704960" cy="2077920"/>
              </a:xfrm>
              <a:custGeom>
                <a:avLst/>
                <a:gdLst/>
                <a:ahLst/>
                <a:rect l="l" t="t" r="r" b="b"/>
                <a:pathLst>
                  <a:path fill="none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</a:path>
                  <a:path stroke="0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  <a:lnTo>
                      <a:pt x="0" y="20937"/>
                    </a:lnTo>
                    <a:lnTo>
                      <a:pt x="531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rc 7"/>
              <p:cNvSpPr/>
              <p:nvPr/>
            </p:nvSpPr>
            <p:spPr>
              <a:xfrm flipH="1" rot="10800000">
                <a:off x="5942520" y="3319560"/>
                <a:ext cx="1328760" cy="2627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8"/>
              <p:cNvSpPr/>
              <p:nvPr/>
            </p:nvSpPr>
            <p:spPr>
              <a:xfrm>
                <a:off x="6192720" y="3728880"/>
                <a:ext cx="1717920" cy="46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Root uptak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0"/>
              <p:cNvSpPr/>
              <p:nvPr/>
            </p:nvSpPr>
            <p:spPr>
              <a:xfrm>
                <a:off x="5425920" y="5710320"/>
                <a:ext cx="1916280" cy="52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Nitrate NO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fr-FR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21"/>
              <p:cNvGrpSpPr/>
              <p:nvPr/>
            </p:nvGrpSpPr>
            <p:grpSpPr>
              <a:xfrm>
                <a:off x="6450120" y="1685880"/>
                <a:ext cx="1425240" cy="1498680"/>
                <a:chOff x="6450120" y="1685880"/>
                <a:chExt cx="1425240" cy="1498680"/>
              </a:xfrm>
            </p:grpSpPr>
            <p:sp>
              <p:nvSpPr>
                <p:cNvPr id="132" name="Text Box 22"/>
                <p:cNvSpPr/>
                <p:nvPr/>
              </p:nvSpPr>
              <p:spPr>
                <a:xfrm>
                  <a:off x="6450120" y="1685880"/>
                  <a:ext cx="1415160" cy="14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3"/>
                <p:cNvSpPr/>
                <p:nvPr/>
              </p:nvSpPr>
              <p:spPr>
                <a:xfrm>
                  <a:off x="6480720" y="2666880"/>
                  <a:ext cx="13946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Plant prote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Arc 24"/>
              <p:cNvSpPr/>
              <p:nvPr/>
            </p:nvSpPr>
            <p:spPr>
              <a:xfrm flipH="1">
                <a:off x="4216320" y="2319480"/>
                <a:ext cx="2454480" cy="1028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Picture 27" descr="BD18253_"/>
              <p:cNvPicPr/>
              <p:nvPr/>
            </p:nvPicPr>
            <p:blipFill>
              <a:blip r:embed="rId2"/>
              <a:stretch/>
            </p:blipFill>
            <p:spPr>
              <a:xfrm>
                <a:off x="6470640" y="1585800"/>
                <a:ext cx="1400040" cy="12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 Box 29"/>
              <p:cNvSpPr/>
              <p:nvPr/>
            </p:nvSpPr>
            <p:spPr>
              <a:xfrm>
                <a:off x="3308400" y="3348000"/>
                <a:ext cx="1984320" cy="784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il organic nitrog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trogen from the atmosphe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Arc 6"/>
          <p:cNvSpPr/>
          <p:nvPr/>
        </p:nvSpPr>
        <p:spPr>
          <a:xfrm rot="10800000">
            <a:off x="2371320" y="3814560"/>
            <a:ext cx="3086280" cy="2314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844640" y="3365640"/>
            <a:ext cx="1341360" cy="728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iological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1714680" y="1249200"/>
            <a:ext cx="3695400" cy="4899240"/>
          </a:xfrm>
          <a:custGeom>
            <a:avLst/>
            <a:gdLst/>
            <a:ahLst/>
            <a:rect l="l" t="t" r="r" b="b"/>
            <a:pathLst>
              <a:path w="5805" h="7785">
                <a:moveTo>
                  <a:pt x="3915" y="0"/>
                </a:moveTo>
                <a:cubicBezTo>
                  <a:pt x="3715" y="7"/>
                  <a:pt x="3017" y="10"/>
                  <a:pt x="2715" y="45"/>
                </a:cubicBezTo>
                <a:cubicBezTo>
                  <a:pt x="2413" y="80"/>
                  <a:pt x="2308" y="107"/>
                  <a:pt x="2100" y="210"/>
                </a:cubicBezTo>
                <a:cubicBezTo>
                  <a:pt x="1892" y="313"/>
                  <a:pt x="1675" y="463"/>
                  <a:pt x="1470" y="660"/>
                </a:cubicBezTo>
                <a:cubicBezTo>
                  <a:pt x="1265" y="857"/>
                  <a:pt x="1040" y="1125"/>
                  <a:pt x="870" y="1395"/>
                </a:cubicBezTo>
                <a:cubicBezTo>
                  <a:pt x="700" y="1665"/>
                  <a:pt x="565" y="2007"/>
                  <a:pt x="450" y="2280"/>
                </a:cubicBezTo>
                <a:cubicBezTo>
                  <a:pt x="335" y="2553"/>
                  <a:pt x="247" y="2760"/>
                  <a:pt x="180" y="3030"/>
                </a:cubicBezTo>
                <a:cubicBezTo>
                  <a:pt x="113" y="3300"/>
                  <a:pt x="62" y="3605"/>
                  <a:pt x="45" y="3900"/>
                </a:cubicBezTo>
                <a:cubicBezTo>
                  <a:pt x="28" y="4195"/>
                  <a:pt x="0" y="4447"/>
                  <a:pt x="75" y="4800"/>
                </a:cubicBezTo>
                <a:cubicBezTo>
                  <a:pt x="150" y="5153"/>
                  <a:pt x="293" y="5650"/>
                  <a:pt x="495" y="6015"/>
                </a:cubicBezTo>
                <a:cubicBezTo>
                  <a:pt x="697" y="6380"/>
                  <a:pt x="950" y="6745"/>
                  <a:pt x="1290" y="6990"/>
                </a:cubicBezTo>
                <a:cubicBezTo>
                  <a:pt x="1630" y="7235"/>
                  <a:pt x="2107" y="7372"/>
                  <a:pt x="2535" y="7485"/>
                </a:cubicBezTo>
                <a:cubicBezTo>
                  <a:pt x="2963" y="7598"/>
                  <a:pt x="3488" y="7623"/>
                  <a:pt x="3855" y="7665"/>
                </a:cubicBezTo>
                <a:cubicBezTo>
                  <a:pt x="4222" y="7707"/>
                  <a:pt x="4415" y="7720"/>
                  <a:pt x="4740" y="7740"/>
                </a:cubicBezTo>
                <a:cubicBezTo>
                  <a:pt x="5065" y="7760"/>
                  <a:pt x="5435" y="7772"/>
                  <a:pt x="5805" y="778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12"/>
          <p:cNvSpPr/>
          <p:nvPr/>
        </p:nvSpPr>
        <p:spPr>
          <a:xfrm flipH="1">
            <a:off x="2390040" y="1305000"/>
            <a:ext cx="1787400" cy="2052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1843200" y="1008000"/>
            <a:ext cx="1744560" cy="1295640"/>
            <a:chOff x="1843200" y="1008000"/>
            <a:chExt cx="1744560" cy="1295640"/>
          </a:xfrm>
        </p:grpSpPr>
        <p:sp>
          <p:nvSpPr>
            <p:cNvPr id="143" name="Text Box 14"/>
            <p:cNvSpPr/>
            <p:nvPr/>
          </p:nvSpPr>
          <p:spPr>
            <a:xfrm>
              <a:off x="2001600" y="1008000"/>
              <a:ext cx="15861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tmospheric fix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 flipH="1">
              <a:off x="2288520" y="1627920"/>
              <a:ext cx="604080" cy="6757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6"/>
            <p:cNvSpPr/>
            <p:nvPr/>
          </p:nvSpPr>
          <p:spPr>
            <a:xfrm>
              <a:off x="1843200" y="1270080"/>
              <a:ext cx="604080" cy="6757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AutoShape 18"/>
          <p:cNvSpPr/>
          <p:nvPr/>
        </p:nvSpPr>
        <p:spPr>
          <a:xfrm>
            <a:off x="728640" y="2725560"/>
            <a:ext cx="1311120" cy="63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582480" y="971640"/>
            <a:ext cx="1532160" cy="1909800"/>
          </a:xfrm>
          <a:prstGeom prst="cloudCallout">
            <a:avLst>
              <a:gd name="adj1" fmla="val 703"/>
              <a:gd name="adj2" fmla="val 9601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ut g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0"/>
          <p:cNvSpPr/>
          <p:nvPr/>
        </p:nvSpPr>
        <p:spPr>
          <a:xfrm>
            <a:off x="1322280" y="2363760"/>
            <a:ext cx="542880" cy="669960"/>
          </a:xfrm>
          <a:custGeom>
            <a:avLst/>
            <a:gdLst/>
            <a:ahLst/>
            <a:rect l="l" t="t" r="r" b="b"/>
            <a:pathLst>
              <a:path w="975" h="1056">
                <a:moveTo>
                  <a:pt x="0" y="852"/>
                </a:moveTo>
                <a:cubicBezTo>
                  <a:pt x="3" y="713"/>
                  <a:pt x="20" y="571"/>
                  <a:pt x="75" y="440"/>
                </a:cubicBezTo>
                <a:cubicBezTo>
                  <a:pt x="130" y="309"/>
                  <a:pt x="235" y="132"/>
                  <a:pt x="330" y="66"/>
                </a:cubicBezTo>
                <a:cubicBezTo>
                  <a:pt x="425" y="0"/>
                  <a:pt x="560" y="25"/>
                  <a:pt x="645" y="44"/>
                </a:cubicBezTo>
                <a:cubicBezTo>
                  <a:pt x="730" y="63"/>
                  <a:pt x="787" y="110"/>
                  <a:pt x="840" y="182"/>
                </a:cubicBezTo>
                <a:cubicBezTo>
                  <a:pt x="893" y="254"/>
                  <a:pt x="945" y="328"/>
                  <a:pt x="960" y="474"/>
                </a:cubicBezTo>
                <a:cubicBezTo>
                  <a:pt x="975" y="620"/>
                  <a:pt x="936" y="935"/>
                  <a:pt x="930" y="10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3846600" y="1031760"/>
            <a:ext cx="32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tmospheric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4 000 000 000 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643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97168" presetSubtype="149090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0" presetSubtype="149062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0" presetSubtype="149074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0" presetSubtype="149038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tmospheric nitrogen fixation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ectrical st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ghtning provides sufficient energy to split the nitrogen atoms of nitrogen ga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ing oxides of nitrogen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tmospheric Pol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s also happens inside the engines of c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xhaust emissions of cars contribute to atmospheric pollution in the form of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1" lang="en-GB" sz="3000" spc="-1" strike="noStrike">
                <a:solidFill>
                  <a:srgbClr val="800080"/>
                </a:solidFill>
                <a:latin typeface="Arial"/>
              </a:rPr>
              <a:t>photochemical smog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green house g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issolve in rain to contribute to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cid rai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form of nitric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rain falling on soil and running into 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contribute to the </a:t>
            </a: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utrophication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f water bod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iological nitrogen fix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6560" y="1555920"/>
          <a:ext cx="8229600" cy="3301920"/>
        </p:xfrm>
        <a:graphic>
          <a:graphicData uri="http://schemas.openxmlformats.org/drawingml/2006/table">
            <a:tbl>
              <a:tblPr/>
              <a:tblGrid>
                <a:gridCol w="5450040"/>
                <a:gridCol w="1398600"/>
                <a:gridCol w="1380960"/>
              </a:tblGrid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at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375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 / 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a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nitrate &amp; 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added &amp; 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nitrate &amp; non-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added &amp; non-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0:22:21Z</dcterms:created>
  <dc:creator>Billiet</dc:creator>
  <dc:description/>
  <dc:language>en-US</dc:language>
  <cp:lastModifiedBy>Shirley Burchill</cp:lastModifiedBy>
  <dcterms:modified xsi:type="dcterms:W3CDTF">2016-08-21T16:12:17Z</dcterms:modified>
  <cp:revision>48</cp:revision>
  <dc:subject/>
  <dc:title>Diapositive 1</dc:title>
</cp:coreProperties>
</file>